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5BF-11D7-4291-ADD5-6D376CC9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543D-E888-416E-9E5D-DB6B3D068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B70-2EC2-4D0D-A325-3B56E949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CEE-A374-41D4-9B6F-FF6ED6EB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0A7-6197-4297-801E-AE5A2D5F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41D-0819-40CA-B01E-C148E947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500-B206-40F2-B76A-8D99FFB9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3C1E-446F-44BC-92DA-026BD1A27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942-9292-44DD-AE71-8130F269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D25-6596-4EA3-BF6E-79934EB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C5C-33BC-4A57-B4FE-30DDC77A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DF2-431B-4539-8675-9C9BCD07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349-F515-4FED-9ED5-C6584A88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40E-48FF-4AF8-AFC5-01593C7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C645-954D-4A1F-A10F-16A5BC5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3D77-CF54-4807-9A7B-04420D7A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245-312E-490F-AA24-7AD054C7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CE1F-BD3F-40C6-B049-4BFDB7F9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37C8-EA07-4CA3-8748-39AEA65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D08-1C01-4F8C-B542-BEAF72A8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B95-1E36-4593-99B5-FACD6A4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55A-3EC5-4985-8E45-A9F69F8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88A6-18DD-42AD-822F-F34D697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159-6B58-4E6A-9529-329BD99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3CB-A5A1-45DA-8620-2A82D8C5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463AD-DFDA-4386-B771-9E687378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F84AC-BE47-42B9-8367-D68342D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60EDB-71AA-4191-A918-132D30C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C146B-497D-4409-A766-BB91ABE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BAD7F-628A-4582-AEB1-49B3044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1F9-2611-489D-9C1A-4AAA352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829AD-96DB-4DCE-8F59-F87D1BA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981F1-C258-42F7-8378-55D38F7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07E66-BCF6-48B0-8E74-28CEF77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75B63-10BD-4023-9941-842E154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2C5AB-5537-4FE3-ACFA-1A3641B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C5B18-4EFE-4954-87C0-C0C30CBB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41E3C-A402-41AE-B08E-11023FDC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6F831-D76A-462B-902F-3D75F946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16123-A12D-4209-97D8-C9FB6695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1B69D-0304-4F5C-A699-E95C9390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A9B-AFE6-4A45-8BE8-D7FFCA1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9E268-32FC-4188-98A6-DFD9E628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B25AB-EFEF-4276-A984-F6282671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199D9-A617-4C79-8626-F335FCAB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71EB2-6412-4DAF-A189-0FF8DEF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F686A-07B1-405D-85F0-2B6B74F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8BE65-5E22-4877-AA9C-9234CAF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F40AD-33AF-4CC3-B14D-E2DC9AA6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9C67D-8A19-4174-A0DC-A406EE83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30E1F-E958-4930-A7FB-76A7921E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685A7-6834-4D41-A58B-3EC9A46E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BBE-CA29-4009-A770-21933B12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E6D75-6E3A-41CF-88AB-539A5E0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EC36D-8C92-4C52-A7F4-79C14B2F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105EA-3417-4EBC-97DA-BCA80E2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B5A05-49F1-4C63-B1BF-E3311614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0BFBD-7149-437D-9DFF-5376DF2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5E184-B0D3-4D3E-865D-A1E65EC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7E63B-EC1C-4FE8-864B-49A40FC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38915-D40D-458B-B02F-1AACC72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34913-82D0-4D59-9454-AF291DA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2F443-FFBA-4365-B52A-8BC63438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DB8-29DE-4373-A3C1-C1FD27C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4AA10-2E34-4B8C-8E26-FC13FF2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A47A-1C89-4D44-B2D3-5ED0229A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C09D-72A2-4A42-B4DF-4F7130B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5AE7-0CCA-4E34-B11E-D32A34B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B898-50AE-4029-BFC9-3E6AD5FE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4E25-96F9-4FAC-B032-AD7477A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718C-5335-4FA0-8A67-1308838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EB53-256B-41FD-99B1-B5693B9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D936-8A54-42AD-99D3-8CD3008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6B4F-CB8E-41ED-8512-9E8905E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60B-7801-4C8D-8FA3-2BBF2A5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371F-22C1-4741-913C-368E8C2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0881A-8B97-4C29-81BA-393171AF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0203-2B00-43AA-8228-9A2825ED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CA742-03EA-4AE5-A260-94135627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6A62F-8BDE-420E-8E77-868AF90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59DEC-3F8A-4B47-809C-570BB09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28F97-EEBA-4DD5-99C7-0BBB1D1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0279E-3335-42F2-9E91-07927E2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C6071-3CCA-47DF-B212-D36557C2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B0F8A-37E7-4153-A7DF-040BDE2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12E-F765-4DF7-AD8C-DA9E04A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2E568-D4EA-4545-8FEA-C002A9C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5504B-8AEA-4D96-92DC-07F48D8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B9D28-CFEB-43CB-AC82-47D2C435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2AFB3-B051-4E27-B547-E5F852AA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F895B-EB72-40CB-B8D2-760CD19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17DD4-2136-4192-8085-742382FC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A767-DCE8-483F-BD15-8367BFA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8582-1D36-423A-B4D6-939DBAE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E4CD-A819-4BA8-8DF8-309D5486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8F92-899B-4854-BA90-D8BBE099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F3F-DBCB-49EA-A162-193D76A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A5C1-59FE-4D8A-B682-27FC3CE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BCB7-95CD-4F60-9C8B-80374A6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95070-97B2-433A-AD4A-40429B0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ADB7-EB2E-4777-8120-F49CC9F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57E5-86CE-4E12-9708-2E825342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53B2-75FF-48C9-8B60-BBD76D22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155E-DD8D-46B6-9762-E18C03C8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4D9-161B-41DC-8A47-03E1823B60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755-FCC0-4855-9B69-5442A787A37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2A5-28C6-4C01-BFEF-74B52AFDA6F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528-EFD9-44FD-B19E-573E4C8EAB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A82D-3974-4548-A075-326202BA97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602-77C1-4300-A5D1-A187C60F21D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4F9-AFB4-4EEB-92BE-5929EA6FB70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B99-2E9B-4C7B-B979-918F426CD7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dc3"/>
                </a:solidFill>
                <a:latin typeface="Times New Roman"/>
              </a:rPr>
              <a:t>Intro to Cell Division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Objective 9: Analyze how cells grow and reproduce in terms of interphase, mitosis &amp; cytokinesi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74320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fore a cell gets too large, it divides into two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ughter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process is called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 division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Before cell division happen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ll replicates (copies) its D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lows both daughter cells to have all of the DNA information in the parent cell.  This solves the information overload crisis.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 division also solves the problem of the surface area-to-volume ratio by allowing your cells to stay small and numerous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imes New Roman"/>
              </a:rPr>
              <a:t>CHROMOSOMES</a:t>
            </a:r>
            <a:br>
              <a:rPr sz="4900"/>
            </a:b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389" name="Picture 3" descr="lateprophase"/>
          <p:cNvPicPr/>
          <p:nvPr/>
        </p:nvPicPr>
        <p:blipFill>
          <a:blip r:embed="rId1"/>
          <a:stretch/>
        </p:blipFill>
        <p:spPr>
          <a:xfrm>
            <a:off x="2590920" y="2286000"/>
            <a:ext cx="426708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imes New Roman"/>
              </a:rPr>
              <a:t>DNA can appear in 2 forms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Picture 4" descr="inter"/>
          <p:cNvPicPr/>
          <p:nvPr/>
        </p:nvPicPr>
        <p:blipFill>
          <a:blip r:embed="rId1"/>
          <a:srcRect l="4746" t="0" r="7251" b="0"/>
          <a:stretch/>
        </p:blipFill>
        <p:spPr>
          <a:xfrm>
            <a:off x="685800" y="2049480"/>
            <a:ext cx="26589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347640" y="1676160"/>
            <a:ext cx="5038920" cy="24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pread out when cells are NOT dividing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5" descr="chromsmear"/>
          <p:cNvPicPr/>
          <p:nvPr/>
        </p:nvPicPr>
        <p:blipFill>
          <a:blip r:embed="rId2"/>
          <a:srcRect l="0" t="8801" r="0" b="0"/>
          <a:stretch/>
        </p:blipFill>
        <p:spPr>
          <a:xfrm>
            <a:off x="380880" y="4191120"/>
            <a:ext cx="2971800" cy="23716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3124080" y="4343400"/>
            <a:ext cx="60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runched up in bundles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when cells div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430080" y="167652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431160" y="438768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3407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imes New Roman"/>
              </a:rPr>
              <a:t>Chromosome structur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8" name="Picture 4" descr="chromosome arms"/>
          <p:cNvPicPr/>
          <p:nvPr/>
        </p:nvPicPr>
        <p:blipFill>
          <a:blip r:embed="rId1"/>
          <a:stretch/>
        </p:blipFill>
        <p:spPr>
          <a:xfrm>
            <a:off x="228600" y="1371600"/>
            <a:ext cx="1727280" cy="3276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______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w Cen MT"/>
              </a:rPr>
              <a:t>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 2 identical arm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onstricted area hol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chromatids togethe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5" descr="chromosome arms"/>
          <p:cNvPicPr/>
          <p:nvPr/>
        </p:nvPicPr>
        <p:blipFill>
          <a:blip r:embed="rId2"/>
          <a:stretch/>
        </p:blipFill>
        <p:spPr>
          <a:xfrm>
            <a:off x="1752480" y="1371600"/>
            <a:ext cx="1725840" cy="32767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57200" y="4952880"/>
            <a:ext cx="76201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 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of each chromosom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(one from mom; one from d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887280" y="1219320"/>
            <a:ext cx="48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sister’ CHROMAT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4115880" y="25146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917280" y="48769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HOMOLOG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H="1">
            <a:off x="2514600" y="1828800"/>
            <a:ext cx="1295280" cy="0"/>
          </a:xfrm>
          <a:prstGeom prst="line">
            <a:avLst/>
          </a:prstGeom>
          <a:ln w="936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 flipH="1">
            <a:off x="2971800" y="1981080"/>
            <a:ext cx="1295280" cy="0"/>
          </a:xfrm>
          <a:prstGeom prst="line">
            <a:avLst/>
          </a:prstGeom>
          <a:ln w="936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 flipH="1">
            <a:off x="2819520" y="2743200"/>
            <a:ext cx="1295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 flipH="1" flipV="1">
            <a:off x="1218960" y="4419720"/>
            <a:ext cx="152280" cy="4572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 flipV="1">
            <a:off x="2133720" y="4419720"/>
            <a:ext cx="457200" cy="4572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hromosome pic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1371600"/>
            <a:ext cx="460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DNA replicates before cell division, chromosomes produce a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pied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chromati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se 2 chromatid chromosomes appear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hap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uring Mitosis, sister chromatids separate and one goes to each of the two new ce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Human Karyotyp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28600" y="1447920"/>
            <a:ext cx="399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of all 23 pairs of human chromos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tice that they are single chromatids paired up as homologous chromos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gender of this huma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87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Did you know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A healthy adult human produces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____________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new cells every second!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819520" y="3276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4404"/>
                </a:solidFill>
                <a:latin typeface="Times New Roman"/>
              </a:rPr>
              <a:t>25 mil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ell siz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s come in a variety of sizes, though most cannot be seen without a microscop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d blood cells: 8μ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gg yolks: 2-8 c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rve cells: up to 1m l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are 2-200μ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904760" cy="2095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4800600" y="5227560"/>
            <a:ext cx="205740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Why cells stay small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several reasons why cells divide rather than continuing to grow indefinitel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. Demand on D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. Surface area-to-volume rati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. Growth, repair, &amp; regene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4. Reprodu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4" descr="j0076201"/>
          <p:cNvPicPr/>
          <p:nvPr/>
        </p:nvPicPr>
        <p:blipFill>
          <a:blip r:embed="rId1"/>
          <a:stretch/>
        </p:blipFill>
        <p:spPr>
          <a:xfrm>
            <a:off x="8077320" y="304920"/>
            <a:ext cx="82224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tarfish regenerating"/>
          <p:cNvPicPr/>
          <p:nvPr/>
        </p:nvPicPr>
        <p:blipFill>
          <a:blip r:embed="rId2"/>
          <a:stretch/>
        </p:blipFill>
        <p:spPr>
          <a:xfrm>
            <a:off x="2057400" y="5334120"/>
            <a:ext cx="1676520" cy="1323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ividingAmoeba"/>
          <p:cNvPicPr/>
          <p:nvPr/>
        </p:nvPicPr>
        <p:blipFill>
          <a:blip r:embed="rId3"/>
          <a:stretch/>
        </p:blipFill>
        <p:spPr>
          <a:xfrm>
            <a:off x="6705720" y="50292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1. DNA Overlo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cells have one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nucleu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at contains the DNA for the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DNA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is needed to instruct cell parts to make protein, enzyme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cell grows, it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does not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more D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creates an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information crisis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a large cell without enough information to tell it what to 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larger a cell gets, the more difficult it is to move material across the cell membra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materials use diffusion to m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fore, metabolism only occurs as fast as materials can be supplied and elimin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usion is very fast over short dista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usion gets very slow over longer dista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cell increases in size, both its volume (inside the cell) and the surface area (outside the cell) grow, but not proportionat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cells grow, volume increases faster than surface areaTherefore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ells stay sma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is a problem because the cell wants as much surface area as possible to absorb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ff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3" descr="Life7e-Fig-04-03-0%20cell%20surface%20area%20to%20volume%20ratio"/>
          <p:cNvPicPr/>
          <p:nvPr/>
        </p:nvPicPr>
        <p:blipFill>
          <a:blip r:embed="rId1"/>
          <a:srcRect l="1097" t="3296" r="0" b="8791"/>
          <a:stretch/>
        </p:blipFill>
        <p:spPr>
          <a:xfrm>
            <a:off x="838080" y="1828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How do cells stay smal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divide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4" descr="cell_division"/>
          <p:cNvPicPr/>
          <p:nvPr/>
        </p:nvPicPr>
        <p:blipFill>
          <a:blip r:embed="rId1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0:47:30Z</dcterms:created>
  <dc:creator>Zebulon Holsopple</dc:creator>
  <dc:description/>
  <cp:keywords/>
  <dc:language>en-US</dc:language>
  <cp:lastModifiedBy>Geneva Jost</cp:lastModifiedBy>
  <dcterms:modified xsi:type="dcterms:W3CDTF">2016-11-29T13:00:16Z</dcterms:modified>
  <cp:revision>188</cp:revision>
  <dc:subject>Biology Honors</dc:subject>
  <dc:title>1.2.2_Notes_ReasonsForCellDivision</dc:title>
</cp:coreProperties>
</file>